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  <p:sldId id="286" r:id="rId55"/>
    <p:sldId id="287" r:id="rId5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slide" Target="slides/slide31.xml"/><Relationship Id="rId56" Type="http://schemas.openxmlformats.org/officeDocument/2006/relationships/slide" Target="slides/slide3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dt" idx="22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sldImg"/>
          </p:nvPr>
        </p:nvSpPr>
        <p:spPr>
          <a:xfrm>
            <a:off x="102960" y="750600"/>
            <a:ext cx="6592680" cy="370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 type="sldNum" idx="24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3CD57F-17A9-454D-B07B-EC1243628F71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Banca d'Italia - Roma, 16 febbraio 20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389054-6DEA-431D-9AA1-C1C6A061D24E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FF6F6AC-C1D5-491F-BDC9-5D2F39C27EE5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B502EE-B3C4-4440-9247-551CE652F96F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A7CB9C-5F83-4E99-A55B-6559794594D3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16E59D-7191-455A-99EC-D7EABBF16A22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1066E4-C383-48EB-BCF2-73483DB17CC7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DA9495-48A0-4DF8-95BE-0F96A458D9B9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A83751-3675-4630-AE76-BFDDD7C160B8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egnaposto numero diapositiva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7ADFF0-3C8D-4BBB-962C-D6E753D5BF90}" type="slidenum">
              <a:rPr b="0" i="1" lang="it-IT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egnaposto numero diapositiva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90C735-03F6-494A-BF73-366045255D9B}" type="slidenum">
              <a:rPr b="0" i="1" lang="it-IT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36699"/>
                </a:solidFill>
                <a:latin typeface="Calibri"/>
                <a:ea typeface="Verdana"/>
              </a:rPr>
              <a:t>Nei rapporti con Paesi terzi non UE </a:t>
            </a:r>
            <a:r>
              <a:rPr b="1" lang="it-IT" sz="1200" spc="-1" strike="noStrike">
                <a:solidFill>
                  <a:srgbClr val="336699"/>
                </a:solidFill>
                <a:latin typeface="Calibri"/>
                <a:ea typeface="Verdana"/>
              </a:rPr>
              <a:t>verrà superato l’attuale approccio «</a:t>
            </a:r>
            <a:r>
              <a:rPr b="1" lang="en-US" sz="1200" spc="-1" strike="noStrike">
                <a:solidFill>
                  <a:srgbClr val="336699"/>
                </a:solidFill>
                <a:latin typeface="Calibri"/>
                <a:ea typeface="Verdana"/>
              </a:rPr>
              <a:t>white</a:t>
            </a:r>
            <a:r>
              <a:rPr b="1" lang="it-IT" sz="1200" spc="-1" strike="noStrike">
                <a:solidFill>
                  <a:srgbClr val="336699"/>
                </a:solidFill>
                <a:latin typeface="Calibri"/>
                <a:ea typeface="Verdana"/>
              </a:rPr>
              <a:t> list» </a:t>
            </a:r>
            <a:r>
              <a:rPr b="0" lang="it-IT" sz="1200" spc="-1" strike="noStrike">
                <a:solidFill>
                  <a:srgbClr val="336699"/>
                </a:solidFill>
                <a:latin typeface="Calibri"/>
                <a:ea typeface="Verdana"/>
              </a:rPr>
              <a:t>in base al quale gli Stati individuano i Paesi con regime antiriciclaggio </a:t>
            </a:r>
            <a:r>
              <a:rPr b="1" lang="it-IT" sz="1200" spc="-1" strike="noStrike">
                <a:solidFill>
                  <a:srgbClr val="336699"/>
                </a:solidFill>
                <a:latin typeface="Calibri"/>
                <a:ea typeface="Verdana"/>
              </a:rPr>
              <a:t>«equivalente» </a:t>
            </a:r>
            <a:r>
              <a:rPr b="0" lang="it-IT" sz="1200" spc="-1" strike="noStrike">
                <a:solidFill>
                  <a:srgbClr val="336699"/>
                </a:solidFill>
                <a:latin typeface="Calibri"/>
                <a:ea typeface="Verdana"/>
              </a:rPr>
              <a:t>a quello europeo e si passerà ad un sistema fondato su di una lista di paesi terzi ad alto rischio (c.d. </a:t>
            </a:r>
            <a:r>
              <a:rPr b="1" lang="it-IT" sz="1200" spc="-1" strike="noStrike">
                <a:solidFill>
                  <a:srgbClr val="336699"/>
                </a:solidFill>
                <a:latin typeface="Calibri"/>
                <a:ea typeface="Verdana"/>
              </a:rPr>
              <a:t>«</a:t>
            </a:r>
            <a:r>
              <a:rPr b="1" lang="en-US" sz="1200" spc="-1" strike="noStrike">
                <a:solidFill>
                  <a:srgbClr val="336699"/>
                </a:solidFill>
                <a:latin typeface="Calibri"/>
                <a:ea typeface="Verdana"/>
              </a:rPr>
              <a:t>black</a:t>
            </a:r>
            <a:r>
              <a:rPr b="1" lang="it-IT" sz="1200" spc="-1" strike="noStrike">
                <a:solidFill>
                  <a:srgbClr val="336699"/>
                </a:solidFill>
                <a:latin typeface="Calibri"/>
                <a:ea typeface="Verdana"/>
              </a:rPr>
              <a:t> list»</a:t>
            </a:r>
            <a:r>
              <a:rPr b="0" lang="it-IT" sz="1200" spc="-1" strike="noStrike">
                <a:solidFill>
                  <a:srgbClr val="336699"/>
                </a:solidFill>
                <a:latin typeface="Calibri"/>
                <a:ea typeface="Verdana"/>
              </a:rPr>
              <a:t>) che verrà adottata con atti delegati dalla Commissione EU</a:t>
            </a:r>
            <a:r>
              <a:rPr b="0" lang="it-IT" sz="1100" spc="-1" strike="noStrike">
                <a:solidFill>
                  <a:srgbClr val="336699"/>
                </a:solidFill>
                <a:latin typeface="Calibri"/>
                <a:ea typeface="Verdana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egnaposto numero diapositiva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FDE78C-B24A-46CF-BBEA-B6E45E4BE4F1}" type="slidenum">
              <a:rPr b="0" i="1" lang="it-IT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egnaposto numero diapositiva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8EFCD4-9896-4F90-BF88-4AC8A989BC92}" type="slidenum">
              <a:rPr b="0" i="1" lang="it-IT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egnaposto numero diapositiva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61A214-D324-40FD-A915-00C161B5160D}" type="slidenum">
              <a:rPr b="0" i="1" lang="it-IT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egnaposto numero diapositiva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F644AD-A10B-4D6D-B08E-0EF99D857E14}" type="slidenum">
              <a:rPr b="0" i="1" lang="it-IT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egnaposto numero diapositiva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8B63B8-0565-4A95-94DF-46CFF6C624B8}" type="slidenum">
              <a:rPr b="0" i="1" lang="it-IT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egnaposto numero diapositiva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417C10-5873-4530-9225-62174C7E80BD}" type="slidenum">
              <a:rPr b="0" i="1" lang="it-IT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29E7F9-DA53-46B2-BB4D-CB65FB7E1497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8DD16C-F47D-49A9-BCAD-9F05D6C489EA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03320" y="750960"/>
            <a:ext cx="6592680" cy="37098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87C97A-9408-4379-BDD5-1C98F72E38A5}" type="slidenum"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9216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it-IT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egnaposto numero diapositiva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18EE3F-9A74-47FB-A39F-F672F6CE1BCA}" type="slidenum">
              <a:rPr b="0" i="1" lang="it-IT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DD1-354B-47B1-A8BE-2F15D7FB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3F1-0881-4029-A9A7-1B1B03D2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21B-EC04-427C-B8CB-6EB20FF2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C7F3-F26E-4EA5-8BFD-78D4929F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8A45-DC5F-40A2-ADBB-68D1780D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983D2D-0396-4F03-85D4-093D719F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65F4E9-7F38-4016-89A0-625A5B96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C41F0-477A-46DD-B0A6-BB860CBB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70668D-6E60-467C-8CD3-4EC99462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E27C3B-6F56-45D3-B875-D18B97C7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4BF-6E67-4B0B-8713-C46ADE26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543965-E512-438A-AF44-A84D99B3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B10DFF-3F87-4026-9626-4326E5B4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33CDA6-064B-42E5-B285-FF66DF6A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9D68D6-B775-410D-8998-CB987B5E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7310D8-26FB-46C3-B11A-5D6423E5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155ADB-6914-4CCB-AC20-68DD060A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73CB1E-8270-40E1-820C-78C68B95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1EDE47-1A38-4EC2-A282-EDFDFE51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AB7394-3588-4133-9190-5C7125F2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90F1AC-A1E8-429E-BFB1-F7911540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936-2384-4D70-A18E-79D6D7BA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4986DE-893A-45C2-B10F-EA9E8279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66E21C-5167-4D2B-98BC-605FF799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1107C-DCE9-4B9F-B265-CEA6C751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B398CE-DCB5-41B3-91C2-9AC50E28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9C3D21-88A7-4B29-AB60-0E25FF58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1A7974-60EC-4843-BD45-ED92B0FF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EF7522-A0DB-4743-9BBA-71890321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8F9B73-D78D-4983-8514-6DBB8F97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964011-0E55-4F11-ABA5-8A8C6EFF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B1A-089F-41F4-B1CC-784A0417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F24-CF23-4EF5-A5B7-A61CB19C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CFC8-6EF1-4F86-BE33-C064091D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7F0-5573-469B-9174-CE775BB0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977-C3C4-438E-A4EF-155A3FD2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317840" y="0"/>
            <a:ext cx="15899760" cy="3809880"/>
            <a:chOff x="-4317840" y="0"/>
            <a:chExt cx="15899760" cy="3809880"/>
          </a:xfrm>
        </p:grpSpPr>
        <p:sp>
          <p:nvSpPr>
            <p:cNvPr id="1" name="AutoShape 3"/>
            <p:cNvSpPr/>
            <p:nvPr/>
          </p:nvSpPr>
          <p:spPr>
            <a:xfrm>
              <a:off x="-4317840" y="685800"/>
              <a:ext cx="54860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3233880" y="0"/>
              <a:ext cx="41248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828800" y="1523880"/>
              <a:ext cx="975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anca d'Italia - Sede di Napoli - Div.Vigil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3A1F-2473-4750-9EED-718327A6586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45AC-D144-4D1A-8783-3D853E8C9968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6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0D00-CCE9-4286-A86D-E6E462D98C0D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17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DE32-B208-473E-89A9-DFADBB32F8C5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18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00E2-59F1-4F08-AE9C-BE4E8BF3F535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19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124E-53BF-4B8C-82E9-1FEE4DDF8E0B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20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D2CA-E516-484E-81B0-E6D749B78221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21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CB44-ECC7-4403-BD8C-FC57C26AF3DB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Rectangle 15"/>
          <p:cNvSpPr/>
          <p:nvPr/>
        </p:nvSpPr>
        <p:spPr>
          <a:xfrm>
            <a:off x="10837800" y="6477480"/>
            <a:ext cx="762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EFA9-4F9E-4D75-BE9F-FA9E726E8AC8}" type="slidenum">
              <a:rPr b="0" lang="en-GB" sz="1100" spc="-1" strike="noStrike">
                <a:solidFill>
                  <a:srgbClr val="60606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Rectangle 15"/>
          <p:cNvSpPr/>
          <p:nvPr/>
        </p:nvSpPr>
        <p:spPr>
          <a:xfrm>
            <a:off x="10837800" y="6477480"/>
            <a:ext cx="762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DBE7-79F2-4D65-9889-9A3186DB70A2}" type="slidenum">
              <a:rPr b="0" lang="en-GB" sz="1100" spc="-1" strike="noStrike">
                <a:solidFill>
                  <a:srgbClr val="60606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DD4F-0140-49F4-BE7C-DA06BD6B034A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669A-7C96-4BA9-9F31-ED76D555DB47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758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4797-4AC3-438E-A0EF-7628D659FD2E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A2D2-A1F0-481F-8EA1-7FB992EC8D8C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E433-5406-49F7-886E-2003B54DDB91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9DBC-51B8-4BA5-BA7A-08BBFE5A9705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878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A6B3-3E85-4528-AA7E-33A0F850EFE5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4317840" y="0"/>
            <a:ext cx="15899760" cy="3809880"/>
            <a:chOff x="-4317840" y="0"/>
            <a:chExt cx="15899760" cy="3809880"/>
          </a:xfrm>
        </p:grpSpPr>
        <p:sp>
          <p:nvSpPr>
            <p:cNvPr id="87" name="AutoShape 3"/>
            <p:cNvSpPr/>
            <p:nvPr/>
          </p:nvSpPr>
          <p:spPr>
            <a:xfrm>
              <a:off x="-4317840" y="685800"/>
              <a:ext cx="54860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3233880" y="0"/>
              <a:ext cx="41248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1828800" y="1523880"/>
              <a:ext cx="975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" name="Group 2"/>
          <p:cNvGrpSpPr/>
          <p:nvPr/>
        </p:nvGrpSpPr>
        <p:grpSpPr>
          <a:xfrm>
            <a:off x="-4297320" y="304920"/>
            <a:ext cx="15878880" cy="4724280"/>
            <a:chOff x="-4297320" y="304920"/>
            <a:chExt cx="15878880" cy="4724280"/>
          </a:xfrm>
        </p:grpSpPr>
        <p:sp>
          <p:nvSpPr>
            <p:cNvPr id="91" name="Line 3"/>
            <p:cNvSpPr/>
            <p:nvPr/>
          </p:nvSpPr>
          <p:spPr>
            <a:xfrm>
              <a:off x="1929960" y="2514600"/>
              <a:ext cx="96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3353040" y="1371600"/>
              <a:ext cx="487656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AutoShape 5"/>
            <p:cNvSpPr/>
            <p:nvPr/>
          </p:nvSpPr>
          <p:spPr>
            <a:xfrm>
              <a:off x="-4297320" y="304920"/>
              <a:ext cx="538488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anca d'Italia - Sede di Napoli - Div.Vigil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2482-B435-47CB-8E4E-6CB2E1656FD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B6F7-B789-4DCA-9D90-EB0DF12D036B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7" name="Group 2"/>
          <p:cNvGrpSpPr/>
          <p:nvPr/>
        </p:nvGrpSpPr>
        <p:grpSpPr>
          <a:xfrm>
            <a:off x="0" y="0"/>
            <a:ext cx="7822800" cy="6858000"/>
            <a:chOff x="0" y="0"/>
            <a:chExt cx="7822800" cy="6858000"/>
          </a:xfrm>
        </p:grpSpPr>
        <p:sp>
          <p:nvSpPr>
            <p:cNvPr id="138" name="Rectangle 3"/>
            <p:cNvSpPr/>
            <p:nvPr/>
          </p:nvSpPr>
          <p:spPr>
            <a:xfrm>
              <a:off x="0" y="0"/>
              <a:ext cx="609588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AutoShape 4"/>
            <p:cNvSpPr/>
            <p:nvPr/>
          </p:nvSpPr>
          <p:spPr>
            <a:xfrm>
              <a:off x="914400" y="990720"/>
              <a:ext cx="690840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5"/>
          <p:cNvGrpSpPr/>
          <p:nvPr/>
        </p:nvGrpSpPr>
        <p:grpSpPr>
          <a:xfrm>
            <a:off x="4843440" y="4889520"/>
            <a:ext cx="6501600" cy="195120"/>
            <a:chOff x="4843440" y="4889520"/>
            <a:chExt cx="6501600" cy="195120"/>
          </a:xfrm>
        </p:grpSpPr>
        <p:sp>
          <p:nvSpPr>
            <p:cNvPr id="141" name="AutoShape 6"/>
            <p:cNvSpPr/>
            <p:nvPr/>
          </p:nvSpPr>
          <p:spPr>
            <a:xfrm flipH="1">
              <a:off x="4843440" y="4889520"/>
              <a:ext cx="6167520" cy="1929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10998360" y="4889520"/>
              <a:ext cx="346680" cy="1951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8"/>
          </p:nvPr>
        </p:nvSpPr>
        <p:spPr>
          <a:xfrm>
            <a:off x="3250800" y="6248520"/>
            <a:ext cx="2840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9"/>
          </p:nvPr>
        </p:nvSpPr>
        <p:spPr>
          <a:xfrm>
            <a:off x="7721280" y="6248520"/>
            <a:ext cx="3862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Banca d'Italia - Torino, 15-17 giugn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0"/>
          </p:nvPr>
        </p:nvSpPr>
        <p:spPr>
          <a:xfrm>
            <a:off x="101520" y="6248520"/>
            <a:ext cx="782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0560-E37A-4C12-9C24-3765ED40AAFF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1685-6AC3-445E-9C58-CCC6B9500548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A1CF-C8E1-433C-95A5-2F05549ACCA1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2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E069-C9C6-48B6-8D7F-B18B9D97F350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13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B5DA-AA0A-4B03-BA38-603E89C141E3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14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1617840" cy="109224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19"/>
          <p:cNvSpPr/>
          <p:nvPr/>
        </p:nvSpPr>
        <p:spPr>
          <a:xfrm>
            <a:off x="11183760" y="62485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A38E-E53E-419F-A974-1560F271DC31}" type="slidenum">
              <a:rPr b="0" lang="it-IT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720" y="261720"/>
            <a:ext cx="9647280" cy="1006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527040" y="1916280"/>
            <a:ext cx="1104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15"/>
          </p:nvPr>
        </p:nvSpPr>
        <p:spPr>
          <a:xfrm>
            <a:off x="527040" y="6453000"/>
            <a:ext cx="110412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nca d'Italia - Torino, 15-17 giugn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adeguata%20verifica16_9.ppt" TargetMode="External"/><Relationship Id="rId2" Type="http://schemas.openxmlformats.org/officeDocument/2006/relationships/hyperlink" Target="file:///collaborazione%20attiva16_9.ppt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Picture 8" descr="palazzo"/>
          <p:cNvPicPr/>
          <p:nvPr/>
        </p:nvPicPr>
        <p:blipFill>
          <a:blip r:embed="rId1"/>
          <a:stretch/>
        </p:blipFill>
        <p:spPr>
          <a:xfrm>
            <a:off x="6095880" y="189000"/>
            <a:ext cx="4572000" cy="29178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1" descr="logoe"/>
          <p:cNvPicPr/>
          <p:nvPr/>
        </p:nvPicPr>
        <p:blipFill>
          <a:blip r:embed="rId2"/>
          <a:stretch/>
        </p:blipFill>
        <p:spPr>
          <a:xfrm>
            <a:off x="2424240" y="1341360"/>
            <a:ext cx="4392360" cy="1087560"/>
          </a:xfrm>
          <a:prstGeom prst="rect">
            <a:avLst/>
          </a:prstGeom>
          <a:ln w="0">
            <a:noFill/>
          </a:ln>
        </p:spPr>
      </p:pic>
      <p:sp>
        <p:nvSpPr>
          <p:cNvPr id="926" name="Rectangle 12"/>
          <p:cNvSpPr/>
          <p:nvPr/>
        </p:nvSpPr>
        <p:spPr>
          <a:xfrm>
            <a:off x="5880240" y="5245200"/>
            <a:ext cx="50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Garamond"/>
                <a:ea typeface="Arial"/>
              </a:rPr>
              <a:t>Giuseppe Garga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Garamond"/>
                <a:ea typeface="Arial"/>
              </a:rPr>
              <a:t>Banca d’Italia – Sede di Tori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Garamond"/>
                <a:ea typeface="Arial"/>
              </a:rPr>
              <a:t>Divisione di Vigilan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Garamond"/>
                <a:ea typeface="Arial"/>
              </a:rPr>
              <a:t>Torino, 1 ottobre 20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CasellaDiTesto 1"/>
          <p:cNvSpPr/>
          <p:nvPr/>
        </p:nvSpPr>
        <p:spPr>
          <a:xfrm>
            <a:off x="2843280" y="3106800"/>
            <a:ext cx="7947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003399"/>
                </a:solidFill>
                <a:latin typeface="Garamond"/>
                <a:ea typeface="Arial"/>
              </a:rPr>
              <a:t>Riciclaggio e finanziamento del terrorism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Garamond"/>
                <a:ea typeface="Arial"/>
              </a:rPr>
              <a:t>Il quadro normativo e il ruolo della Banca d’Itali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Segnaposto numero diapositiva 5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D878-11DA-4FE4-B0AD-3735FDAFF2DF}" type="slidenum">
              <a:rPr b="0" lang="it-IT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2. Il quadro normativo di riferimen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439880" y="2349360"/>
            <a:ext cx="3375000" cy="160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Fonti normativ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Standard e best practices internazion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Disposizioni UE-GAF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Comitato di Basilea per la Vigilanza banca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Text Box 5"/>
          <p:cNvSpPr/>
          <p:nvPr/>
        </p:nvSpPr>
        <p:spPr>
          <a:xfrm>
            <a:off x="2424240" y="5084640"/>
            <a:ext cx="3095640" cy="36828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  <a:ea typeface="Arial"/>
              </a:rPr>
              <a:t>Antiriciclagg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Text Box 6"/>
          <p:cNvSpPr/>
          <p:nvPr/>
        </p:nvSpPr>
        <p:spPr>
          <a:xfrm>
            <a:off x="6743880" y="5084640"/>
            <a:ext cx="3311280" cy="36828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  <a:ea typeface="Arial"/>
              </a:rPr>
              <a:t>Vigilan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Rectangle 7"/>
          <p:cNvSpPr/>
          <p:nvPr/>
        </p:nvSpPr>
        <p:spPr>
          <a:xfrm>
            <a:off x="5159520" y="5734080"/>
            <a:ext cx="2089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  <a:ea typeface="Arial"/>
              </a:rPr>
              <a:t>Disciplina nazion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64" name="AutoShape 8"/>
          <p:cNvCxnSpPr/>
          <p:nvPr/>
        </p:nvCxnSpPr>
        <p:spPr>
          <a:xfrm flipH="1">
            <a:off x="4800240" y="4005360"/>
            <a:ext cx="100872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5" name="AutoShape 9"/>
          <p:cNvCxnSpPr/>
          <p:nvPr/>
        </p:nvCxnSpPr>
        <p:spPr>
          <a:xfrm>
            <a:off x="6167160" y="4005000"/>
            <a:ext cx="108180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966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Segnaposto numero diapositiva 5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92CF-EBE6-472A-AAF0-D82892C646B7}" type="slidenum">
              <a:rPr b="0" lang="it-IT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89692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quadro normativo di riferimen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918800" y="2060640"/>
            <a:ext cx="826956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Gli standard e le norme emanati a livello internazionale (raccomandazioni GAFI: 40 in materia di antiriciclaggio + 9 sul finanziamento del terrorismo internazionale; Guidance </a:t>
            </a: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regarding the implementation of financial provisions of UN resolutions to counter the proliferation of weapons of mass destruction</a:t>
            </a: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La disciplina comunitaria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La disciplina nazion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0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Segnaposto numero diapositiva 5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7CF8-A9ED-4FB9-BCE3-5359B180AB00}" type="slidenum">
              <a:rPr b="0" lang="it-IT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89692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quadro normativo di riferimen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13516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IV DIRETTIVA AML 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– (Direttiva (UE) 849/2015 del Parlamento e del Consiglio del 20 maggio 2015). Detta i criteri di deleg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D.LGS 90/2017 del 25 maggio 2017 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– (Pubblicato in GU n. 140 del 19 giugno 2017 ed entrato in vigore il 4 luglio 2017 (15 gg di </a:t>
            </a:r>
            <a:r>
              <a:rPr b="0" i="1" lang="it-IT" sz="2400" spc="-1" strike="noStrike">
                <a:solidFill>
                  <a:srgbClr val="006666"/>
                </a:solidFill>
                <a:latin typeface="Garamond"/>
              </a:rPr>
              <a:t>vacatio legis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). Novella i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Nuovo D.LGS 231/2007 del 21 novembre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Segnaposto numero diapositiva 5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8639-976C-487B-94C6-4DA6F7E5FF69}" type="slidenum">
              <a:rPr b="0" lang="it-IT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decreto legislativo n. 231/200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827360" y="2063520"/>
            <a:ext cx="8805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 u="sng">
                <a:solidFill>
                  <a:srgbClr val="006666"/>
                </a:solidFill>
                <a:uFillTx/>
                <a:latin typeface="Garamond"/>
              </a:rPr>
              <a:t>Finalità e principi generali:</a:t>
            </a:r>
            <a:r>
              <a:rPr b="0" lang="it-IT" sz="2900" spc="-1" strike="noStrike" u="sng">
                <a:solidFill>
                  <a:srgbClr val="006666"/>
                </a:solidFill>
                <a:uFillTx/>
                <a:latin typeface="Garamond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tutela dell’integrità del sistema finanziario e del sistema economic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coordinamento tra attività di prevenzione e repress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collaborazione attiva dei destinatar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adempimento degli obblighi sulla base delle informazioni possedute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-</a:t>
            </a: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misure recate dal decreto proporzionate al rischi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misure recate dal decreto proporzionate rispetto all’attività e alla dimensione dei destinatar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8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Segnaposto numero diapositiva 5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CFA0-0BAA-444B-8FA7-8A0182BA3CF5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/>
          </p:nvPr>
        </p:nvSpPr>
        <p:spPr>
          <a:xfrm>
            <a:off x="2469960" y="2603520"/>
            <a:ext cx="76928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Titolare effettivo (beneficial own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Persone politicamente esposte (PEP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Unità di Informazione Finanziaria (UIF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Paesi con regime equivalente (?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</a:rPr>
              <a:t>Prestatori di servizi relativi a società e tru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decreto legislativo n. 231/200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2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983" name="CasellaDiTesto 2"/>
          <p:cNvSpPr/>
          <p:nvPr/>
        </p:nvSpPr>
        <p:spPr>
          <a:xfrm>
            <a:off x="3866400" y="1762200"/>
            <a:ext cx="481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Garamond"/>
                <a:ea typeface="Arial"/>
              </a:rPr>
              <a:t>Le novità terminologich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Segnaposto numero diapositiva 5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2DAE-BB45-4178-84E9-1B69E7038B9B}" type="slidenum">
              <a:rPr b="0" lang="it-IT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/>
          </p:nvPr>
        </p:nvSpPr>
        <p:spPr>
          <a:xfrm>
            <a:off x="1774440" y="1989000"/>
            <a:ext cx="8433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8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6666"/>
                </a:solidFill>
                <a:latin typeface="Garamond"/>
              </a:rPr>
              <a:t>Destinatari degli obblighi: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4320" indent="-28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intermediari finanziari</a:t>
            </a:r>
            <a:r>
              <a:rPr b="0" lang="it-IT" sz="2200" spc="-1" strike="noStrike">
                <a:solidFill>
                  <a:srgbClr val="006666"/>
                </a:solidFill>
                <a:latin typeface="Garamond"/>
              </a:rPr>
              <a:t>: banche, SIM, SGR, IMEL, società 106 e 107 TUB, imprese di assicurazione, promotori finanziari, etc.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84320" indent="-28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professionisti</a:t>
            </a:r>
            <a:r>
              <a:rPr b="0" lang="it-IT" sz="2200" spc="-1" strike="noStrike">
                <a:solidFill>
                  <a:srgbClr val="006666"/>
                </a:solidFill>
                <a:latin typeface="Garamond"/>
              </a:rPr>
              <a:t>: commercialisti, notai, avvocati, prestatori di servizi relativi a società e trus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84320" indent="-28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revisori contabili</a:t>
            </a:r>
            <a:r>
              <a:rPr b="0" lang="it-IT" sz="2200" spc="-1" strike="noStrike">
                <a:solidFill>
                  <a:srgbClr val="006666"/>
                </a:solidFill>
                <a:latin typeface="Garamond"/>
              </a:rPr>
              <a:t>: società di revisione e revisori contabil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84320" indent="-28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altri soggetti</a:t>
            </a:r>
            <a:r>
              <a:rPr b="0" lang="it-IT" sz="2200" spc="-1" strike="noStrike">
                <a:solidFill>
                  <a:srgbClr val="006666"/>
                </a:solidFill>
                <a:latin typeface="Garamond"/>
              </a:rPr>
              <a:t>: società recupero crediti, società trasporto valori, case da gioco, società di giochi on-line, mediatori immobiliar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843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843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6666"/>
                </a:solidFill>
                <a:latin typeface="Garamond"/>
              </a:rPr>
              <a:t>Altri soggetti sottoposti ai soli obblighi di segnalazione di operazioni sospette (società gestione accentrata titoli, gestioni di mercati regolamentati, commercio oro e preziosi, antiquari, etc.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6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2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decreto legislativo n. 231/200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decreto legislativo n. 231/200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0" name="Text Box 40"/>
          <p:cNvSpPr/>
          <p:nvPr/>
        </p:nvSpPr>
        <p:spPr>
          <a:xfrm>
            <a:off x="2714760" y="2205000"/>
            <a:ext cx="74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66"/>
                </a:solidFill>
                <a:latin typeface="Garamond"/>
                <a:ea typeface="Arial"/>
              </a:rPr>
              <a:t>Il nuovo assetto delle Autorità e dei control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AutoShape 41"/>
          <p:cNvSpPr/>
          <p:nvPr/>
        </p:nvSpPr>
        <p:spPr>
          <a:xfrm>
            <a:off x="6746760" y="2852640"/>
            <a:ext cx="3168720" cy="647640"/>
          </a:xfrm>
          <a:prstGeom prst="flowChartConnector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Garamond"/>
                <a:ea typeface="Arial"/>
              </a:rPr>
              <a:t>Organi investigati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AutoShape 42"/>
          <p:cNvSpPr/>
          <p:nvPr/>
        </p:nvSpPr>
        <p:spPr>
          <a:xfrm>
            <a:off x="2498760" y="2852640"/>
            <a:ext cx="3168720" cy="647640"/>
          </a:xfrm>
          <a:prstGeom prst="flowChartConnector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Garamond"/>
                <a:ea typeface="Arial"/>
              </a:rPr>
              <a:t>Autorità amministra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AutoShape 43"/>
          <p:cNvSpPr/>
          <p:nvPr/>
        </p:nvSpPr>
        <p:spPr>
          <a:xfrm>
            <a:off x="5559480" y="3284640"/>
            <a:ext cx="1081080" cy="29988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C S 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Text Box 44"/>
          <p:cNvSpPr/>
          <p:nvPr/>
        </p:nvSpPr>
        <p:spPr>
          <a:xfrm>
            <a:off x="2427120" y="4653000"/>
            <a:ext cx="792360" cy="39888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U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Text Box 45"/>
          <p:cNvSpPr/>
          <p:nvPr/>
        </p:nvSpPr>
        <p:spPr>
          <a:xfrm>
            <a:off x="8836200" y="4581360"/>
            <a:ext cx="1368360" cy="39888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Vigil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Text Box 46"/>
          <p:cNvSpPr/>
          <p:nvPr/>
        </p:nvSpPr>
        <p:spPr>
          <a:xfrm>
            <a:off x="5451480" y="3645000"/>
            <a:ext cx="1295280" cy="30708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Normativ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Text Box 47"/>
          <p:cNvSpPr/>
          <p:nvPr/>
        </p:nvSpPr>
        <p:spPr>
          <a:xfrm>
            <a:off x="5487840" y="4653000"/>
            <a:ext cx="1224000" cy="30708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Controll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Text Box 48"/>
          <p:cNvSpPr/>
          <p:nvPr/>
        </p:nvSpPr>
        <p:spPr>
          <a:xfrm>
            <a:off x="5487840" y="5518080"/>
            <a:ext cx="1224000" cy="30708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Sanzion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Text Box 49"/>
          <p:cNvSpPr/>
          <p:nvPr/>
        </p:nvSpPr>
        <p:spPr>
          <a:xfrm>
            <a:off x="5487840" y="5084640"/>
            <a:ext cx="1224000" cy="30708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Intervent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00" name="AutoShape 50"/>
          <p:cNvCxnSpPr>
            <a:stCxn id="994" idx="3"/>
          </p:cNvCxnSpPr>
          <p:nvPr/>
        </p:nvCxnSpPr>
        <p:spPr>
          <a:xfrm flipV="1">
            <a:off x="3219120" y="3859920"/>
            <a:ext cx="2159640" cy="9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1" name="AutoShape 51"/>
          <p:cNvCxnSpPr>
            <a:stCxn id="994" idx="3"/>
            <a:endCxn id="1002" idx="1"/>
          </p:cNvCxnSpPr>
          <p:nvPr/>
        </p:nvCxnSpPr>
        <p:spPr>
          <a:xfrm flipV="1">
            <a:off x="3219480" y="4374720"/>
            <a:ext cx="172800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3" name="AutoShape 52"/>
          <p:cNvCxnSpPr>
            <a:stCxn id="995" idx="1"/>
            <a:endCxn id="996" idx="3"/>
          </p:cNvCxnSpPr>
          <p:nvPr/>
        </p:nvCxnSpPr>
        <p:spPr>
          <a:xfrm flipH="1" flipV="1">
            <a:off x="6746400" y="3798000"/>
            <a:ext cx="2090160" cy="98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2" name="Text Box 53"/>
          <p:cNvSpPr/>
          <p:nvPr/>
        </p:nvSpPr>
        <p:spPr>
          <a:xfrm>
            <a:off x="4946760" y="4221000"/>
            <a:ext cx="2305080" cy="52020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Analisi operazioni sospet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04" name="AutoShape 54"/>
          <p:cNvCxnSpPr>
            <a:stCxn id="995" idx="1"/>
          </p:cNvCxnSpPr>
          <p:nvPr/>
        </p:nvCxnSpPr>
        <p:spPr>
          <a:xfrm flipH="1">
            <a:off x="6746400" y="4784760"/>
            <a:ext cx="2090160" cy="8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5" name="AutoShape 55"/>
          <p:cNvCxnSpPr>
            <a:stCxn id="995" idx="1"/>
            <a:endCxn id="998" idx="3"/>
          </p:cNvCxnSpPr>
          <p:nvPr/>
        </p:nvCxnSpPr>
        <p:spPr>
          <a:xfrm flipH="1">
            <a:off x="6711120" y="4784400"/>
            <a:ext cx="2125080" cy="88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6" name="AutoShape 56"/>
          <p:cNvCxnSpPr>
            <a:endCxn id="999" idx="3"/>
          </p:cNvCxnSpPr>
          <p:nvPr/>
        </p:nvCxnSpPr>
        <p:spPr>
          <a:xfrm flipH="1">
            <a:off x="6711480" y="4846320"/>
            <a:ext cx="1959840" cy="3927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07" name="AutoShape 57"/>
          <p:cNvCxnSpPr/>
          <p:nvPr/>
        </p:nvCxnSpPr>
        <p:spPr>
          <a:xfrm>
            <a:off x="3219480" y="4868640"/>
            <a:ext cx="223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8" name="AutoShape 58"/>
          <p:cNvCxnSpPr>
            <a:stCxn id="995" idx="1"/>
            <a:endCxn id="999" idx="3"/>
          </p:cNvCxnSpPr>
          <p:nvPr/>
        </p:nvCxnSpPr>
        <p:spPr>
          <a:xfrm flipH="1">
            <a:off x="6711120" y="4784400"/>
            <a:ext cx="212508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9" name="Text Box 59"/>
          <p:cNvSpPr/>
          <p:nvPr/>
        </p:nvSpPr>
        <p:spPr>
          <a:xfrm>
            <a:off x="4514760" y="6021360"/>
            <a:ext cx="3311640" cy="39888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Protocollo d’intesa UIF/B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3"/>
          <p:cNvSpPr/>
          <p:nvPr/>
        </p:nvSpPr>
        <p:spPr>
          <a:xfrm>
            <a:off x="1415880" y="2060640"/>
            <a:ext cx="9504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8360" indent="-32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66"/>
                </a:solidFill>
                <a:latin typeface="Garamond"/>
                <a:ea typeface="Arial"/>
              </a:rPr>
              <a:t>Riordino competenze Autorità: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8360" indent="-32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66"/>
                </a:solidFill>
                <a:latin typeface="Garamond"/>
                <a:ea typeface="Arial"/>
              </a:rPr>
              <a:t>- </a:t>
            </a: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  <a:ea typeface="Arial"/>
              </a:rPr>
              <a:t>Ministro dell’economia e delle finanze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  <a:ea typeface="Arial"/>
              </a:rPr>
              <a:t>: responsabilità delle politiche di prevenzione; promozione della collaborazione tra Autorità, ordini professionali, organi investigativi; rapporti con organismi internazionali; poteri sanzionato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8360" indent="-324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66"/>
                </a:solidFill>
                <a:latin typeface="Garamond"/>
                <a:ea typeface="Arial"/>
              </a:rPr>
              <a:t> </a:t>
            </a: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  <a:ea typeface="Arial"/>
              </a:rPr>
              <a:t>Comitato di Sicurezza Finanziaria: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  <a:ea typeface="Arial"/>
              </a:rPr>
              <a:t> l’organismo assume ruolo stabile in materia di antiriciclaggio, attraverso: collaborazione e consulenza al Ministro dell’economia e delle finanze; funzioni di analisi e coordinamento; formulazione di pareri</a:t>
            </a: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8360" indent="-324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66"/>
                </a:solidFill>
                <a:latin typeface="Garamond"/>
                <a:ea typeface="Arial"/>
              </a:rPr>
              <a:t> </a:t>
            </a: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  <a:ea typeface="Arial"/>
              </a:rPr>
              <a:t>UIF presso la Banca d’Italia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  <a:ea typeface="Arial"/>
              </a:rPr>
              <a:t>: funzioni di intelligence finanziaria incentrata sulle segnalazioni e/o mancate segnalazioni di operazioni sospette. Piena autonomia e indipendenza della UIF. Regolamento B.I. per la disciplina dell’organizzazione e del funzionamento dell’Unità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8360" indent="-324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decreto legislativo n. 231/200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2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3"/>
          <p:cNvSpPr/>
          <p:nvPr/>
        </p:nvSpPr>
        <p:spPr>
          <a:xfrm>
            <a:off x="1415880" y="2133720"/>
            <a:ext cx="9576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 u="sng">
                <a:solidFill>
                  <a:srgbClr val="006666"/>
                </a:solidFill>
                <a:uFillTx/>
                <a:latin typeface="Garamond"/>
                <a:ea typeface="Arial"/>
              </a:rPr>
              <a:t>Autorità di vigilanza</a:t>
            </a:r>
            <a:r>
              <a:rPr b="0" lang="it-IT" sz="2600" spc="-1" strike="noStrike">
                <a:solidFill>
                  <a:srgbClr val="006666"/>
                </a:solidFill>
                <a:latin typeface="Garamond"/>
                <a:ea typeface="Arial"/>
              </a:rPr>
              <a:t>: verifica del rispetto degli obblighi stabiliti dal decreto; emanazione di regole applicative in materia di organizzazione, controlli interni e procedure; poteri sanzionator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 u="sng">
                <a:solidFill>
                  <a:srgbClr val="006666"/>
                </a:solidFill>
                <a:uFillTx/>
                <a:latin typeface="Garamond"/>
                <a:ea typeface="Arial"/>
              </a:rPr>
              <a:t>Amministrazioni interessate e ordini professionali</a:t>
            </a:r>
            <a:r>
              <a:rPr b="0" lang="it-IT" sz="2600" spc="-1" strike="noStrike">
                <a:solidFill>
                  <a:srgbClr val="006666"/>
                </a:solidFill>
                <a:latin typeface="Garamond"/>
                <a:ea typeface="Arial"/>
              </a:rPr>
              <a:t>: verifica del rispetto degli obblighi stabiliti dal decreto da parte dei professionist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 u="sng">
                <a:solidFill>
                  <a:srgbClr val="006666"/>
                </a:solidFill>
                <a:uFillTx/>
                <a:latin typeface="Garamond"/>
                <a:ea typeface="Arial"/>
              </a:rPr>
              <a:t>Forze di Polizia</a:t>
            </a:r>
            <a:r>
              <a:rPr b="0" lang="it-IT" sz="2600" spc="-1" strike="noStrike">
                <a:solidFill>
                  <a:srgbClr val="006666"/>
                </a:solidFill>
                <a:latin typeface="Garamond"/>
                <a:ea typeface="Arial"/>
              </a:rPr>
              <a:t>: attività di indagine, prevenzione e repressione. Guardia di Finanza e DIA svolgono attività d’indagine su segnalazioni trasmesse da UIF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decreto legislativo n. 231/200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Segnaposto numero diapositiva 5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7194-A966-456F-8954-992604227020}" type="slidenum">
              <a:rPr b="0" lang="it-IT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/>
          </p:nvPr>
        </p:nvSpPr>
        <p:spPr>
          <a:xfrm>
            <a:off x="1703520" y="1827360"/>
            <a:ext cx="98740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Controlli su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Garamond"/>
                <a:hlinkClick r:id="rId1"/>
              </a:rPr>
              <a:t>rispetto obblighi di adeguata verifica della clientela</a:t>
            </a: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rispetto obblighi di registrazione (?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modalità assolvimento obblighi segnalazione di operazioni sospette (</a:t>
            </a:r>
            <a:r>
              <a:rPr b="0" lang="en-US" sz="2800" spc="-1" strike="noStrike" u="sng">
                <a:solidFill>
                  <a:srgbClr val="006666"/>
                </a:solidFill>
                <a:uFillTx/>
                <a:latin typeface="Garamond"/>
                <a:hlinkClick r:id="rId2"/>
              </a:rPr>
              <a:t>collaborazione attiva</a:t>
            </a: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adeguatezza modello organizzativo e dei controlli interni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attività di form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8" name="Picture 6" descr="logo banca d'Italia"/>
          <p:cNvPicPr/>
          <p:nvPr/>
        </p:nvPicPr>
        <p:blipFill>
          <a:blip r:embed="rId3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1019" name="PlaceHolder 2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decreto legislativo n. 231/200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AutoShape 2"/>
          <p:cNvSpPr/>
          <p:nvPr/>
        </p:nvSpPr>
        <p:spPr>
          <a:xfrm>
            <a:off x="16970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4"/>
          <p:cNvSpPr/>
          <p:nvPr/>
        </p:nvSpPr>
        <p:spPr>
          <a:xfrm>
            <a:off x="184932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139840" y="159840"/>
            <a:ext cx="7313760" cy="16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Agenda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1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3"/>
          <p:cNvSpPr/>
          <p:nvPr/>
        </p:nvSpPr>
        <p:spPr>
          <a:xfrm>
            <a:off x="2424240" y="1844640"/>
            <a:ext cx="78357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Garamond"/>
                <a:ea typeface="Arial"/>
              </a:rPr>
              <a:t>Alcuni concetti preliminar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Garamond"/>
                <a:ea typeface="Arial"/>
              </a:rPr>
              <a:t>Il quadro normativ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Garamond"/>
                <a:ea typeface="Arial"/>
              </a:rPr>
              <a:t>Il nuovo D. Lgs. 231/ 200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Garamond"/>
                <a:ea typeface="Arial"/>
              </a:rPr>
              <a:t>Il ruolo della Banca d’Itali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3. Il ‘nuovo’ D Lgs. 231/200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1" name="Rettangolo 8"/>
          <p:cNvSpPr/>
          <p:nvPr/>
        </p:nvSpPr>
        <p:spPr>
          <a:xfrm>
            <a:off x="2208240" y="2421000"/>
            <a:ext cx="77896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66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ESTENDE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 il perimetro dei soggetti destinatari degli obblighi (</a:t>
            </a:r>
            <a:r>
              <a:rPr b="0" i="1" lang="it-IT" sz="2400" spc="-1" strike="noStrike">
                <a:solidFill>
                  <a:srgbClr val="006666"/>
                </a:solidFill>
                <a:latin typeface="Garamond"/>
              </a:rPr>
              <a:t>money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0" i="1" lang="it-IT" sz="2400" spc="-1" strike="noStrike">
                <a:solidFill>
                  <a:srgbClr val="006666"/>
                </a:solidFill>
                <a:latin typeface="Garamond"/>
              </a:rPr>
              <a:t>transfer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, esercenti attività di compravendita oro, settore giochi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66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INNOVA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 la disciplina dell’adeguata verific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66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RAFFORZA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 l’utilizzo di un approccio basato sulla valutazione del risch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66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INTRODUCE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 il concetto di autovalutazione della propria esposizione al rischio riciclaggio da parte degli intermediar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66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6666"/>
                </a:solidFill>
                <a:uFillTx/>
                <a:latin typeface="Garamond"/>
              </a:rPr>
              <a:t>RAFFORZA</a:t>
            </a:r>
            <a:r>
              <a:rPr b="0" lang="it-IT" sz="2400" spc="-1" strike="noStrike">
                <a:solidFill>
                  <a:srgbClr val="006666"/>
                </a:solidFill>
                <a:latin typeface="Garamond"/>
              </a:rPr>
              <a:t> l’apparato sanzionatorio e i poteri delle Autorità del settore antiriciclagg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2" name="Picture 6" descr="logo banca d'Italia"/>
          <p:cNvPicPr/>
          <p:nvPr/>
        </p:nvPicPr>
        <p:blipFill>
          <a:blip r:embed="rId1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523880" y="5950080"/>
            <a:ext cx="7132680" cy="914400"/>
          </a:xfrm>
          <a:prstGeom prst="rect">
            <a:avLst/>
          </a:prstGeom>
          <a:ln w="0">
            <a:noFill/>
          </a:ln>
        </p:spPr>
      </p:pic>
      <p:sp>
        <p:nvSpPr>
          <p:cNvPr id="1024" name="Rectangle 3"/>
          <p:cNvSpPr/>
          <p:nvPr/>
        </p:nvSpPr>
        <p:spPr>
          <a:xfrm>
            <a:off x="2057400" y="106668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CasellaDiTesto 2"/>
          <p:cNvSpPr/>
          <p:nvPr/>
        </p:nvSpPr>
        <p:spPr>
          <a:xfrm>
            <a:off x="2351160" y="191628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mutano alcune modalità di conduzione dell’adeguata verifica,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emplificata e rafforzata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→ approccio in base al rischi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CasellaDiTesto 1"/>
          <p:cNvSpPr/>
          <p:nvPr/>
        </p:nvSpPr>
        <p:spPr>
          <a:xfrm>
            <a:off x="2351160" y="5013360"/>
            <a:ext cx="82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precisazione dei poteri e delle responsabilità delle Autorità di vigilanza nei confronti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IP e IMEL comunitari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 che operano in LPS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CasellaDiTesto 3"/>
          <p:cNvSpPr/>
          <p:nvPr/>
        </p:nvSpPr>
        <p:spPr>
          <a:xfrm>
            <a:off x="2351160" y="5781600"/>
            <a:ext cx="82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rafforzamento poteri di Vigilanza e regime sanzionatorio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CasellaDiTesto 9"/>
          <p:cNvSpPr/>
          <p:nvPr/>
        </p:nvSpPr>
        <p:spPr>
          <a:xfrm>
            <a:off x="2351160" y="407664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viene meno il riferimento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in normativa primaria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all’obbligatoria tenuta dell’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Archivio Unico Informatico (AUI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CasellaDiTesto 12"/>
          <p:cNvSpPr/>
          <p:nvPr/>
        </p:nvSpPr>
        <p:spPr>
          <a:xfrm>
            <a:off x="2351160" y="2805120"/>
            <a:ext cx="82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misure più incisive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ul Titolare Effettivo e sull’accessibilità delle relative informazioni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: rafforzamento obblighi per le società e per i soggetti obbligati, registro centralizza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Le principali novità del ‘nuovo’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D. Lgs. 231/0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1" name="Picture 6" descr="logo banca d'Italia"/>
          <p:cNvPicPr/>
          <p:nvPr/>
        </p:nvPicPr>
        <p:blipFill>
          <a:blip r:embed="rId2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2" descr=""/>
          <p:cNvPicPr/>
          <p:nvPr/>
        </p:nvPicPr>
        <p:blipFill>
          <a:blip r:embed="rId1"/>
          <a:stretch/>
        </p:blipFill>
        <p:spPr>
          <a:xfrm>
            <a:off x="1523880" y="5950080"/>
            <a:ext cx="7132680" cy="914400"/>
          </a:xfrm>
          <a:prstGeom prst="rect">
            <a:avLst/>
          </a:prstGeom>
          <a:ln w="0">
            <a:noFill/>
          </a:ln>
        </p:spPr>
      </p:pic>
      <p:sp>
        <p:nvSpPr>
          <p:cNvPr id="1033" name="Rectangle 3"/>
          <p:cNvSpPr/>
          <p:nvPr/>
        </p:nvSpPr>
        <p:spPr>
          <a:xfrm>
            <a:off x="2057400" y="106668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CasellaDiTesto 3"/>
          <p:cNvSpPr/>
          <p:nvPr/>
        </p:nvSpPr>
        <p:spPr>
          <a:xfrm>
            <a:off x="1847880" y="2340000"/>
            <a:ext cx="843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Rettangolo arrotondato 2"/>
          <p:cNvSpPr/>
          <p:nvPr/>
        </p:nvSpPr>
        <p:spPr>
          <a:xfrm>
            <a:off x="1847880" y="2340000"/>
            <a:ext cx="4218120" cy="3106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99"/>
                </a:solidFill>
                <a:latin typeface="Garamond"/>
                <a:ea typeface="Arial"/>
              </a:rPr>
              <a:t>L’adeguata verif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6699"/>
                </a:solidFill>
                <a:uFillTx/>
                <a:latin typeface="Garamond"/>
                <a:ea typeface="Arial"/>
              </a:rPr>
              <a:t>SEMPLIFICATA (art. 2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Garamond"/>
                <a:ea typeface="Arial"/>
              </a:rPr>
              <a:t>Eliminazione </a:t>
            </a: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Arial"/>
              </a:rPr>
              <a:t>delle fattispecie a </a:t>
            </a:r>
            <a:r>
              <a:rPr b="1" lang="it-IT" sz="1600" spc="-1" strike="noStrike">
                <a:solidFill>
                  <a:srgbClr val="006699"/>
                </a:solidFill>
                <a:latin typeface="Garamond"/>
                <a:ea typeface="Arial"/>
              </a:rPr>
              <a:t>basso rischio presunto </a:t>
            </a: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Arial"/>
              </a:rPr>
              <a:t>(rapporti con PA, società quotate, altri intermediari) → nel nuovo testo tali fattispecie sono solo «indicatori» di basso rischi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Arial"/>
              </a:rPr>
              <a:t>E’ </a:t>
            </a:r>
            <a:r>
              <a:rPr b="1" lang="it-IT" sz="1600" spc="-1" strike="noStrike">
                <a:solidFill>
                  <a:srgbClr val="006699"/>
                </a:solidFill>
                <a:latin typeface="Garamond"/>
                <a:ea typeface="Arial"/>
              </a:rPr>
              <a:t>rimessa ai soggetti obbligati </a:t>
            </a: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Arial"/>
              </a:rPr>
              <a:t>la valutazione in ordine all’applicabilità del regime semplificato, che </a:t>
            </a:r>
            <a:r>
              <a:rPr b="1" lang="it-IT" sz="1600" spc="-1" strike="noStrike">
                <a:solidFill>
                  <a:srgbClr val="006699"/>
                </a:solidFill>
                <a:latin typeface="Garamond"/>
                <a:ea typeface="Arial"/>
              </a:rPr>
              <a:t>in nessun caso può tradursi in esenzione </a:t>
            </a: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Arial"/>
              </a:rPr>
              <a:t>dagli obblighi di A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Rettangolo arrotondato 10"/>
          <p:cNvSpPr/>
          <p:nvPr/>
        </p:nvSpPr>
        <p:spPr>
          <a:xfrm>
            <a:off x="6270480" y="2340000"/>
            <a:ext cx="4218120" cy="3106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6699"/>
                </a:solidFill>
                <a:uFillTx/>
                <a:latin typeface="Garamond"/>
                <a:ea typeface="Calibri"/>
              </a:rPr>
              <a:t>RAFFORZATA (artt. 24 e 25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In linea generale, è </a:t>
            </a:r>
            <a:r>
              <a:rPr b="1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rimessa agli intermediari </a:t>
            </a: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la valutazione  circa la sussistenza di un più alto rischio di riciclaggi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Permangono 3 ipotesi di AVR </a:t>
            </a:r>
            <a:r>
              <a:rPr b="1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obbligatoria</a:t>
            </a: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rapporti di corrispondenz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rapporti con PE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rapporti con clienti residenti in Paesi terzi ad alto rischio individuati dalla Commissione Europe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CasellaDiTesto 14"/>
          <p:cNvSpPr/>
          <p:nvPr/>
        </p:nvSpPr>
        <p:spPr>
          <a:xfrm>
            <a:off x="1847880" y="558972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In entrambi casi</a:t>
            </a:r>
            <a:r>
              <a:rPr b="0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, è espressamente riconosciuto il </a:t>
            </a:r>
            <a:r>
              <a:rPr b="1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ruolo delle Autorità di settore </a:t>
            </a:r>
            <a:r>
              <a:rPr b="0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nell’individuazione dei </a:t>
            </a:r>
            <a:r>
              <a:rPr b="1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fattori di rischio da prendere in considerazione </a:t>
            </a:r>
            <a:r>
              <a:rPr b="0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al fine di adottare misure semplificate o rafforza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Le principali novità del ‘nuovo’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D. Lgs. 231/0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9" name="Picture 6" descr="logo banca d'Italia"/>
          <p:cNvPicPr/>
          <p:nvPr/>
        </p:nvPicPr>
        <p:blipFill>
          <a:blip r:embed="rId2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1523880" y="5950080"/>
            <a:ext cx="7132680" cy="914400"/>
          </a:xfrm>
          <a:prstGeom prst="rect">
            <a:avLst/>
          </a:prstGeom>
          <a:ln w="0">
            <a:noFill/>
          </a:ln>
        </p:spPr>
      </p:pic>
      <p:sp>
        <p:nvSpPr>
          <p:cNvPr id="1041" name="Rectangle 3"/>
          <p:cNvSpPr/>
          <p:nvPr/>
        </p:nvSpPr>
        <p:spPr>
          <a:xfrm>
            <a:off x="2057400" y="106668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CasellaDiTesto 9"/>
          <p:cNvSpPr/>
          <p:nvPr/>
        </p:nvSpPr>
        <p:spPr>
          <a:xfrm>
            <a:off x="1992240" y="2349360"/>
            <a:ext cx="899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compare la distinzione tra PEP esteri e PEP domestici →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ottoposti al medesimo regime di adeguata verifica rafforzat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la nozione di PEP «domestico» è estesa fino alle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cariche regionali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nella definizione sono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compresi anche i familiari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e i soggetti che intrattengono «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tretti legami»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con un PEP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Rettangolo arrotondato 10"/>
          <p:cNvSpPr/>
          <p:nvPr/>
        </p:nvSpPr>
        <p:spPr>
          <a:xfrm>
            <a:off x="2495520" y="5151600"/>
            <a:ext cx="8001000" cy="14317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cap="rnd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Garamond"/>
                <a:ea typeface="Verdana"/>
              </a:rPr>
              <a:t>Si opta per </a:t>
            </a:r>
            <a:r>
              <a:rPr b="1" lang="it-IT" sz="2000" spc="-1" strike="noStrike">
                <a:solidFill>
                  <a:srgbClr val="336699"/>
                </a:solidFill>
                <a:latin typeface="Garamond"/>
                <a:ea typeface="Verdana"/>
              </a:rPr>
              <a:t>un sistema più rigido </a:t>
            </a:r>
            <a:r>
              <a:rPr b="0" lang="it-IT" sz="2000" spc="-1" strike="noStrike">
                <a:solidFill>
                  <a:srgbClr val="336699"/>
                </a:solidFill>
                <a:latin typeface="Garamond"/>
                <a:ea typeface="Verdana"/>
              </a:rPr>
              <a:t>di quello previsto dalle Raccomandazioni GAFI che, per le persone politicamente esposte c.d. «domestiche», richiedono </a:t>
            </a:r>
            <a:r>
              <a:rPr b="1" lang="it-IT" sz="2000" spc="-1" strike="noStrike">
                <a:solidFill>
                  <a:srgbClr val="336699"/>
                </a:solidFill>
                <a:latin typeface="Garamond"/>
                <a:ea typeface="Verdana"/>
              </a:rPr>
              <a:t>l’eventuale applicazione di misure rafforzate da modulare in base al rischio</a:t>
            </a:r>
            <a:r>
              <a:rPr b="0" lang="it-IT" sz="2000" spc="-1" strike="noStrike">
                <a:solidFill>
                  <a:srgbClr val="336699"/>
                </a:solidFill>
                <a:latin typeface="Garamond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Le principali novità del ‘nuovo’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D. Lgs. 231/0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5" name="Picture 6" descr="logo banca d'Italia"/>
          <p:cNvPicPr/>
          <p:nvPr/>
        </p:nvPicPr>
        <p:blipFill>
          <a:blip r:embed="rId2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1523880" y="5950080"/>
            <a:ext cx="7132680" cy="914400"/>
          </a:xfrm>
          <a:prstGeom prst="rect">
            <a:avLst/>
          </a:prstGeom>
          <a:ln w="0">
            <a:noFill/>
          </a:ln>
        </p:spPr>
      </p:pic>
      <p:sp>
        <p:nvSpPr>
          <p:cNvPr id="1047" name="Rectangle 3"/>
          <p:cNvSpPr/>
          <p:nvPr/>
        </p:nvSpPr>
        <p:spPr>
          <a:xfrm>
            <a:off x="2057400" y="106668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CasellaDiTesto 9"/>
          <p:cNvSpPr/>
          <p:nvPr/>
        </p:nvSpPr>
        <p:spPr>
          <a:xfrm>
            <a:off x="1919160" y="2209680"/>
            <a:ext cx="8447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Viene istituito un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registro centrale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dei titolari effettivi di tutte le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ocietà di capitali, delle persone giuridiche private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costituite in Italia nonché dei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trust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Il registro sarà sempre accessibile alle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Autorità competenti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, alla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UIF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 e ai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oggetti destinatari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degli obblighi antiriciclaggio → sarà disciplinato con apposito decreto del ME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Accesso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«limitato»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per tutti gli altri soggetti che dimostrino di avere un interesse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legittimo, diretto, concreto e attuale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(possibilità esclusa per i trust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Le principali novità del ‘nuovo’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D. Lgs. 231/0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0" name="Picture 6" descr="logo banca d'Italia"/>
          <p:cNvPicPr/>
          <p:nvPr/>
        </p:nvPicPr>
        <p:blipFill>
          <a:blip r:embed="rId2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1523880" y="5950080"/>
            <a:ext cx="7132680" cy="914400"/>
          </a:xfrm>
          <a:prstGeom prst="rect">
            <a:avLst/>
          </a:prstGeom>
          <a:ln w="0">
            <a:noFill/>
          </a:ln>
        </p:spPr>
      </p:pic>
      <p:sp>
        <p:nvSpPr>
          <p:cNvPr id="1052" name="Rectangle 3"/>
          <p:cNvSpPr/>
          <p:nvPr/>
        </p:nvSpPr>
        <p:spPr>
          <a:xfrm>
            <a:off x="2057400" y="106668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CasellaDiTesto 9"/>
          <p:cNvSpPr/>
          <p:nvPr/>
        </p:nvSpPr>
        <p:spPr>
          <a:xfrm>
            <a:off x="1285920" y="1844640"/>
            <a:ext cx="9923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Lo schema di decreto non prevede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– in normativa primaria – il riferimento all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’obbligatoria tenuta dell’AUI →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gli intermediari rimangono soggetti agli obblighi di conservazione, ma sono liberi di scegliere il </a:t>
            </a:r>
            <a:r>
              <a:rPr b="0" lang="it-IT" sz="2400" spc="-1" strike="noStrike" u="sng">
                <a:solidFill>
                  <a:srgbClr val="006699"/>
                </a:solidFill>
                <a:uFillTx/>
                <a:latin typeface="Garamond"/>
                <a:ea typeface="Arial"/>
              </a:rPr>
              <a:t>sistema più idoneo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al fine di garantire completezza e integrità dei dati, nonché un’accessibilità completa e tempestiva agli stess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uperamento della visione dell’AUI come strumento strettamente necessario ai fini investigativi per l’attività di contrasto al riciclagg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Tuttavia, negli ultimi 10 anni l’AUI è entrato nella cultura aziendale degli intermediari, diventando uno </a:t>
            </a: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trumento organizzativo e di monitoraggio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Arial"/>
              </a:rPr>
              <a:t>su cui sono stati calibrati i principali applicativi informatici in uso presso il siste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Le principali novità del ‘nuovo’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D. Lgs. 231/0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5" name="Picture 6" descr="logo banca d'Italia"/>
          <p:cNvPicPr/>
          <p:nvPr/>
        </p:nvPicPr>
        <p:blipFill>
          <a:blip r:embed="rId2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3"/>
          <p:cNvSpPr/>
          <p:nvPr/>
        </p:nvSpPr>
        <p:spPr>
          <a:xfrm>
            <a:off x="2135160" y="202572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CasellaDiTesto 5"/>
          <p:cNvSpPr/>
          <p:nvPr/>
        </p:nvSpPr>
        <p:spPr>
          <a:xfrm>
            <a:off x="1843200" y="4398840"/>
            <a:ext cx="843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La IV Direttiva prevede un </a:t>
            </a:r>
            <a:r>
              <a:rPr b="1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significativo rafforzamento 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dei poteri, anche sanzionatori, delle Autorità competenti → </a:t>
            </a:r>
            <a:r>
              <a:rPr b="1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allineamento rispetto a CRD4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CasellaDiTesto 6"/>
          <p:cNvSpPr/>
          <p:nvPr/>
        </p:nvSpPr>
        <p:spPr>
          <a:xfrm>
            <a:off x="1843200" y="5224320"/>
            <a:ext cx="843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Creazione di un impianto che mira ad essere </a:t>
            </a:r>
            <a:r>
              <a:rPr b="1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efficace, proporzionale e dissuasivo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 → accanto alle sanzioni amministrative pecuniarie vengono introdotte </a:t>
            </a:r>
            <a:r>
              <a:rPr b="1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ulteriori misure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, da applicare nelle ipotesi di violazioni </a:t>
            </a:r>
            <a:r>
              <a:rPr b="0" lang="it-IT" sz="2000" spc="-1" strike="noStrike" u="sng">
                <a:solidFill>
                  <a:srgbClr val="006699"/>
                </a:solidFill>
                <a:uFillTx/>
                <a:latin typeface="Garamond"/>
                <a:ea typeface="Arial"/>
              </a:rPr>
              <a:t>non gravi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 o contraddistinte da </a:t>
            </a:r>
            <a:r>
              <a:rPr b="0" lang="it-IT" sz="2000" spc="-1" strike="noStrike" u="sng">
                <a:solidFill>
                  <a:srgbClr val="006699"/>
                </a:solidFill>
                <a:uFillTx/>
                <a:latin typeface="Garamond"/>
                <a:ea typeface="Arial"/>
              </a:rPr>
              <a:t>scarsa offensività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Rettangolo arrotondato 7"/>
          <p:cNvSpPr/>
          <p:nvPr/>
        </p:nvSpPr>
        <p:spPr>
          <a:xfrm>
            <a:off x="1854360" y="1866960"/>
            <a:ext cx="8496000" cy="23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ATTUALE QUADRO SANZIONATO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Le sanzioni sono rivolte all’en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Sono sanzioni previste per ipotesi tipiche, senza considerare la “gravità” della violazion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Sono solo strumenti pecuniar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99"/>
                </a:solidFill>
                <a:latin typeface="Garamond"/>
                <a:ea typeface="Arial"/>
              </a:rPr>
              <a:t>Gli importi sono ricompresi fra € 10.000 e € 200.000 → scarsa dissuasività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Le principali novità del ‘nuovo’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D. Lgs. 231/0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1" name="Picture 6" descr="logo banca d'Italia"/>
          <p:cNvPicPr/>
          <p:nvPr/>
        </p:nvPicPr>
        <p:blipFill>
          <a:blip r:embed="rId1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2" descr=""/>
          <p:cNvPicPr/>
          <p:nvPr/>
        </p:nvPicPr>
        <p:blipFill>
          <a:blip r:embed="rId1"/>
          <a:stretch/>
        </p:blipFill>
        <p:spPr>
          <a:xfrm>
            <a:off x="1523880" y="5950080"/>
            <a:ext cx="7132680" cy="914400"/>
          </a:xfrm>
          <a:prstGeom prst="rect">
            <a:avLst/>
          </a:prstGeom>
          <a:ln w="0">
            <a:noFill/>
          </a:ln>
        </p:spPr>
      </p:pic>
      <p:sp>
        <p:nvSpPr>
          <p:cNvPr id="1063" name="Rectangle 3"/>
          <p:cNvSpPr/>
          <p:nvPr/>
        </p:nvSpPr>
        <p:spPr>
          <a:xfrm>
            <a:off x="2057400" y="106668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1127160" y="1989000"/>
            <a:ext cx="101534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6699"/>
                </a:solidFill>
                <a:latin typeface="Garamond"/>
                <a:ea typeface="Calibri"/>
              </a:rPr>
              <a:t>Chi potrà essere sanzionat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0320" indent="-31032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0320" indent="-31032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Principalmente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 gli </a:t>
            </a:r>
            <a:r>
              <a:rPr b="0" lang="it-IT" sz="2400" spc="-1" strike="noStrike" u="sng">
                <a:solidFill>
                  <a:srgbClr val="006699"/>
                </a:solidFill>
                <a:uFillTx/>
                <a:latin typeface="Garamond"/>
                <a:ea typeface="Calibri"/>
              </a:rPr>
              <a:t>intermediari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 → sanzione pecuniaria amministrativa da 30.000 euro a 5 mln ovvero pari al 10% del fatturato complessivo annuo, quando tale importo percentuale è superiore a 5 mln e il fatturato è disponibile o determinab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0320" indent="-31032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0320" indent="-31032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Se responsabili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, le </a:t>
            </a:r>
            <a:r>
              <a:rPr b="0" lang="it-IT" sz="2400" spc="-1" strike="noStrike" u="sng">
                <a:solidFill>
                  <a:srgbClr val="006699"/>
                </a:solidFill>
                <a:uFillTx/>
                <a:latin typeface="Garamond"/>
                <a:ea typeface="Calibri"/>
              </a:rPr>
              <a:t>persone fisiche </a:t>
            </a:r>
            <a:r>
              <a:rPr b="0" lang="it-IT" sz="2400" spc="-1" strike="noStrike">
                <a:solidFill>
                  <a:srgbClr val="006699"/>
                </a:solidFill>
                <a:latin typeface="Garamond"/>
                <a:ea typeface="Calibri"/>
              </a:rPr>
              <a:t>(titolari di funzioni di amministrazione, direzione e controllo e il personale dell’ente che, non assolvendo in tutto o in parte ai compiti correlati alla funzione o all’incarico, hanno agevolato, facilitato o comunque reso possibile le violazioni ovvero hanno inciso in modo rilevante sull’esposizione dell’ente al rischio di riciclaggio) → sanzione amministrativa pecuniaria da 10.000 euro a 5 ml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0320" indent="-31032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Le principali novità del ‘nuovo’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D. Lgs. 231/0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6" name="Picture 6" descr="logo banca d'Italia"/>
          <p:cNvPicPr/>
          <p:nvPr/>
        </p:nvPicPr>
        <p:blipFill>
          <a:blip r:embed="rId2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Picture 2" descr=""/>
          <p:cNvPicPr/>
          <p:nvPr/>
        </p:nvPicPr>
        <p:blipFill>
          <a:blip r:embed="rId1"/>
          <a:stretch/>
        </p:blipFill>
        <p:spPr>
          <a:xfrm>
            <a:off x="1523880" y="5950080"/>
            <a:ext cx="7132680" cy="914400"/>
          </a:xfrm>
          <a:prstGeom prst="rect">
            <a:avLst/>
          </a:prstGeom>
          <a:ln w="0">
            <a:noFill/>
          </a:ln>
        </p:spPr>
      </p:pic>
      <p:sp>
        <p:nvSpPr>
          <p:cNvPr id="1068" name="Rectangle 3"/>
          <p:cNvSpPr/>
          <p:nvPr/>
        </p:nvSpPr>
        <p:spPr>
          <a:xfrm>
            <a:off x="2057400" y="98100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Rettangolo arrotondato 12"/>
          <p:cNvSpPr/>
          <p:nvPr/>
        </p:nvSpPr>
        <p:spPr>
          <a:xfrm>
            <a:off x="2673360" y="5846760"/>
            <a:ext cx="3095640" cy="6969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cap="rnd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D.lgs. 231/2007 vig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ttangolo arrotondato 15"/>
          <p:cNvSpPr/>
          <p:nvPr/>
        </p:nvSpPr>
        <p:spPr>
          <a:xfrm>
            <a:off x="6850080" y="5846760"/>
            <a:ext cx="3095640" cy="6969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cap="rnd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Recepimento IV Diret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Rettangolo arrotondato 17"/>
          <p:cNvSpPr/>
          <p:nvPr/>
        </p:nvSpPr>
        <p:spPr>
          <a:xfrm>
            <a:off x="2384280" y="1700280"/>
            <a:ext cx="3673800" cy="4052880"/>
          </a:xfrm>
          <a:custGeom>
            <a:avLst/>
            <a:gdLst>
              <a:gd name="textAreaLeft" fmla="*/ 179280 w 3673800"/>
              <a:gd name="textAreaRight" fmla="*/ 3494520 w 3673800"/>
              <a:gd name="textAreaTop" fmla="*/ 179280 h 4052880"/>
              <a:gd name="textAreaBottom" fmla="*/ 3873600 h 4052880"/>
            </a:gdLst>
            <a:ahLst/>
            <a:rect l="textAreaLeft" t="textAreaTop" r="textAreaRight" b="textAreaBottom"/>
            <a:pathLst>
              <a:path w="21600" h="23829">
                <a:moveTo>
                  <a:pt x="3600" y="0"/>
                </a:moveTo>
                <a:arcTo wR="3600" hR="3600" stAng="16200000" swAng="-5400000"/>
                <a:lnTo>
                  <a:pt x="0" y="20229"/>
                </a:lnTo>
                <a:arcTo wR="3600" hR="3600" stAng="10800000" swAng="-5400000"/>
                <a:lnTo>
                  <a:pt x="18000" y="238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buClr>
                <a:srgbClr val="2da2b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Le sanzioni sono rivolte all’en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2da2b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Sono sanzioni previste per ipotesi tipiche, senza considerare la “gravità” della violazion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2da2b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Sono solo strumenti pecuniar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2da2b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Gli importi sono ricompresi fra € 10.000 e € 200.000 senza fissare criteri di modularità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Rettangolo arrotondato 18"/>
          <p:cNvSpPr/>
          <p:nvPr/>
        </p:nvSpPr>
        <p:spPr>
          <a:xfrm>
            <a:off x="6561000" y="1700280"/>
            <a:ext cx="3673440" cy="4052880"/>
          </a:xfrm>
          <a:custGeom>
            <a:avLst/>
            <a:gdLst>
              <a:gd name="textAreaLeft" fmla="*/ 179280 w 3673440"/>
              <a:gd name="textAreaRight" fmla="*/ 3494160 w 3673440"/>
              <a:gd name="textAreaTop" fmla="*/ 179280 h 4052880"/>
              <a:gd name="textAreaBottom" fmla="*/ 3873600 h 4052880"/>
            </a:gdLst>
            <a:ahLst/>
            <a:rect l="textAreaLeft" t="textAreaTop" r="textAreaRight" b="textAreaBottom"/>
            <a:pathLst>
              <a:path w="21600" h="23831">
                <a:moveTo>
                  <a:pt x="3600" y="0"/>
                </a:moveTo>
                <a:arcTo wR="3600" hR="3600" stAng="16200000" swAng="-5400000"/>
                <a:lnTo>
                  <a:pt x="0" y="20231"/>
                </a:lnTo>
                <a:arcTo wR="3600" hR="3600" stAng="10800000" swAng="-5400000"/>
                <a:lnTo>
                  <a:pt x="18000" y="238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buClr>
                <a:srgbClr val="2da2b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Le sanzioni colpiscono l’ente e, in presenza dei presupposti, la persona fisic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2da2b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Sono sempre sanzioni tipiche, ma quelle pecuniarie sono applicate solo quando la violazione è grave, ripetuta o plurim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2da2b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Il panel degli strumenti sanzionatori è ampi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2da2b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Calibri"/>
              </a:rPr>
              <a:t>Gli importi sono più elevati, ma modulabi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495160" y="301320"/>
            <a:ext cx="771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Le principali novità del ‘nuovo’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Garamond"/>
              </a:rPr>
              <a:t>D. Lgs. 231/0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4" name="Picture 6" descr="logo banca d'Italia"/>
          <p:cNvPicPr/>
          <p:nvPr/>
        </p:nvPicPr>
        <p:blipFill>
          <a:blip r:embed="rId2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3. Il Ruolo della Banca d’Ital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7" name="Text Box 9"/>
          <p:cNvSpPr/>
          <p:nvPr/>
        </p:nvSpPr>
        <p:spPr>
          <a:xfrm>
            <a:off x="2314440" y="2308320"/>
            <a:ext cx="3816360" cy="82404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Obblighi fondamentali (adeguata verifica della clientela, registrazioni, segnalazioni sospet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8" name="Text Box 10"/>
          <p:cNvSpPr/>
          <p:nvPr/>
        </p:nvSpPr>
        <p:spPr>
          <a:xfrm>
            <a:off x="6346800" y="2308320"/>
            <a:ext cx="4102200" cy="82404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Requisiti (assetti, requisiti onorabilità, organizzazione e controlli) – Gestione dei rischi – Comunicazioni all’Od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Text Box 11"/>
          <p:cNvSpPr/>
          <p:nvPr/>
        </p:nvSpPr>
        <p:spPr>
          <a:xfrm>
            <a:off x="2297160" y="3198960"/>
            <a:ext cx="3816360" cy="58068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Estensione al settore finanziario e parafinanziar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Text Box 12"/>
          <p:cNvSpPr/>
          <p:nvPr/>
        </p:nvSpPr>
        <p:spPr>
          <a:xfrm>
            <a:off x="6329520" y="3198960"/>
            <a:ext cx="4101840" cy="58068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Estensione dei controlli agli intermediari finanziar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Text Box 13"/>
          <p:cNvSpPr/>
          <p:nvPr/>
        </p:nvSpPr>
        <p:spPr>
          <a:xfrm>
            <a:off x="6329520" y="3897360"/>
            <a:ext cx="4101840" cy="82404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Regolamentazione delle realtà di gruppo, anche cross border – stabilità finanziar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Text Box 14"/>
          <p:cNvSpPr/>
          <p:nvPr/>
        </p:nvSpPr>
        <p:spPr>
          <a:xfrm>
            <a:off x="2297160" y="3995640"/>
            <a:ext cx="3816360" cy="3373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Contrasto a livello internazion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Text Box 15"/>
          <p:cNvSpPr/>
          <p:nvPr/>
        </p:nvSpPr>
        <p:spPr>
          <a:xfrm>
            <a:off x="2297160" y="4602240"/>
            <a:ext cx="3816360" cy="82404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Scambio di informazioni e collaborazione tra autorità nazionali e internazional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Text Box 16"/>
          <p:cNvSpPr/>
          <p:nvPr/>
        </p:nvSpPr>
        <p:spPr>
          <a:xfrm>
            <a:off x="6329520" y="4602240"/>
            <a:ext cx="4103640" cy="82404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Scambio di informazioni e collaborazione tra autorità nazionali e internazional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Text Box 17"/>
          <p:cNvSpPr/>
          <p:nvPr/>
        </p:nvSpPr>
        <p:spPr>
          <a:xfrm>
            <a:off x="2314440" y="5398920"/>
            <a:ext cx="3816360" cy="58068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Riservatezza delle fonti di segnalazi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Text Box 18"/>
          <p:cNvSpPr/>
          <p:nvPr/>
        </p:nvSpPr>
        <p:spPr>
          <a:xfrm>
            <a:off x="6346800" y="5398920"/>
            <a:ext cx="4103640" cy="3373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Segreto d’uffi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Text Box 22"/>
          <p:cNvSpPr/>
          <p:nvPr/>
        </p:nvSpPr>
        <p:spPr>
          <a:xfrm>
            <a:off x="4511520" y="5888160"/>
            <a:ext cx="3419640" cy="82404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Criterio di proporzionalità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Contenimento degli oner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  <a:ea typeface="Arial"/>
              </a:rPr>
              <a:t>Risk based supervi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Text Box 6"/>
          <p:cNvSpPr/>
          <p:nvPr/>
        </p:nvSpPr>
        <p:spPr>
          <a:xfrm>
            <a:off x="3089160" y="1774800"/>
            <a:ext cx="2016360" cy="36828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  <a:ea typeface="Arial"/>
              </a:rPr>
              <a:t>Antiriciclagg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Text Box 7"/>
          <p:cNvSpPr/>
          <p:nvPr/>
        </p:nvSpPr>
        <p:spPr>
          <a:xfrm>
            <a:off x="7554960" y="1774800"/>
            <a:ext cx="1439640" cy="36828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  <a:ea typeface="Arial"/>
              </a:rPr>
              <a:t>Vigilan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Text Box 19"/>
          <p:cNvSpPr/>
          <p:nvPr/>
        </p:nvSpPr>
        <p:spPr>
          <a:xfrm>
            <a:off x="5537160" y="17748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Arial"/>
              </a:rPr>
              <a:t>convergen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91" name="AutoShape 20"/>
          <p:cNvCxnSpPr/>
          <p:nvPr/>
        </p:nvCxnSpPr>
        <p:spPr>
          <a:xfrm>
            <a:off x="5105520" y="1990440"/>
            <a:ext cx="505440" cy="1080"/>
          </a:xfrm>
          <a:prstGeom prst="straightConnector1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</p:cxnSp>
      <p:cxnSp>
        <p:nvCxnSpPr>
          <p:cNvPr id="1092" name="AutoShape 21"/>
          <p:cNvCxnSpPr/>
          <p:nvPr/>
        </p:nvCxnSpPr>
        <p:spPr>
          <a:xfrm flipH="1">
            <a:off x="6977880" y="1990800"/>
            <a:ext cx="577080" cy="2160"/>
          </a:xfrm>
          <a:prstGeom prst="straightConnector1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Segnaposto numero diapositiva 3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040F-792C-4AE1-947D-92B627DB5C68}" type="slidenum">
              <a:rPr b="0" lang="it-IT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4" name="Immagine 4" descr=""/>
          <p:cNvPicPr/>
          <p:nvPr/>
        </p:nvPicPr>
        <p:blipFill>
          <a:blip r:embed="rId1"/>
          <a:stretch/>
        </p:blipFill>
        <p:spPr>
          <a:xfrm>
            <a:off x="2489040" y="1743120"/>
            <a:ext cx="7747200" cy="460692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139840" y="159840"/>
            <a:ext cx="7313760" cy="16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1. Alcuni concetti preliminari:</a:t>
            </a:r>
            <a:br>
              <a:rPr sz="3600"/>
            </a:b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cosa intendiamo per Riciclaggio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6" name="Picture 6" descr="logo banca d'Italia"/>
          <p:cNvPicPr/>
          <p:nvPr/>
        </p:nvPicPr>
        <p:blipFill>
          <a:blip r:embed="rId2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 Box 27"/>
          <p:cNvSpPr/>
          <p:nvPr/>
        </p:nvSpPr>
        <p:spPr>
          <a:xfrm>
            <a:off x="2371680" y="191628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  <a:ea typeface="Arial"/>
              </a:rPr>
              <a:t>I compiti della Vigilanza Creditizia e Finanzia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Text Box 28"/>
          <p:cNvSpPr/>
          <p:nvPr/>
        </p:nvSpPr>
        <p:spPr>
          <a:xfrm>
            <a:off x="2552760" y="2906640"/>
            <a:ext cx="1584360" cy="39888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Norma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Text Box 29"/>
          <p:cNvSpPr/>
          <p:nvPr/>
        </p:nvSpPr>
        <p:spPr>
          <a:xfrm>
            <a:off x="4387680" y="2432160"/>
            <a:ext cx="5832720" cy="116892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876"/>
              </a:spcBef>
              <a:buClr>
                <a:srgbClr val="33cccc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Adeguata verifica della clientel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buClr>
                <a:srgbClr val="33cccc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Registrazione dati nell’archivio unico informatic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buClr>
                <a:srgbClr val="33cccc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Organizzazione, procedure, controlli interni (in particolare, segnalazione di operazioni sospett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Text Box 30"/>
          <p:cNvSpPr/>
          <p:nvPr/>
        </p:nvSpPr>
        <p:spPr>
          <a:xfrm>
            <a:off x="2732040" y="4159080"/>
            <a:ext cx="122400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Control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Text Box 31"/>
          <p:cNvSpPr/>
          <p:nvPr/>
        </p:nvSpPr>
        <p:spPr>
          <a:xfrm>
            <a:off x="4387680" y="3656160"/>
            <a:ext cx="5832720" cy="1280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cc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Ispezioni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cc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Verifiche cartolari (poteri TUB-TUF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cc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Informative UIF e altre autorit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cc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Interventi di vigilanz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Text Box 32"/>
          <p:cNvSpPr/>
          <p:nvPr/>
        </p:nvSpPr>
        <p:spPr>
          <a:xfrm>
            <a:off x="2768760" y="5348160"/>
            <a:ext cx="1152360" cy="70380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San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Text Box 33"/>
          <p:cNvSpPr/>
          <p:nvPr/>
        </p:nvSpPr>
        <p:spPr>
          <a:xfrm>
            <a:off x="4390920" y="5010120"/>
            <a:ext cx="5830920" cy="149328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6666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Sanzioni penali (art. 55, d.lgs. 231/2007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6666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Sanzioni amministrative (art. 56, d.lgs. 231/2007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6666"/>
              </a:buClr>
              <a:buSzPct val="65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Nei confronti degli intermediari 106 TUB, mediatori e agenti</a:t>
            </a:r>
            <a:r>
              <a:rPr b="1" lang="it-IT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6666"/>
                </a:solidFill>
                <a:latin typeface="Garamond"/>
                <a:ea typeface="Arial"/>
              </a:rPr>
              <a:t> cancellazioni dall’elenco per gravi violazion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cc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0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Ruolo della Banca d’Ital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/>
          </p:nvPr>
        </p:nvSpPr>
        <p:spPr>
          <a:xfrm>
            <a:off x="2350800" y="2492280"/>
            <a:ext cx="2274840" cy="98424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6666"/>
                </a:solidFill>
                <a:latin typeface="Garamond"/>
              </a:rPr>
              <a:t>Ban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6666"/>
                </a:solidFill>
                <a:latin typeface="Garamond"/>
              </a:rPr>
              <a:t>d’Ital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Text Box 4"/>
          <p:cNvSpPr/>
          <p:nvPr/>
        </p:nvSpPr>
        <p:spPr>
          <a:xfrm>
            <a:off x="5772240" y="2522520"/>
            <a:ext cx="3959280" cy="126684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banche; Poste; IMEL,  SIM,  SGR,  SICAV,; intermediari ex 107 TUB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 </a:t>
            </a:r>
            <a:r>
              <a:rPr b="1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Cassa Depositi e Presti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Text Box 5"/>
          <p:cNvSpPr/>
          <p:nvPr/>
        </p:nvSpPr>
        <p:spPr>
          <a:xfrm>
            <a:off x="2351160" y="5516640"/>
            <a:ext cx="2303280" cy="1167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Guardia di Fin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NSP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Text Box 6"/>
          <p:cNvSpPr/>
          <p:nvPr/>
        </p:nvSpPr>
        <p:spPr>
          <a:xfrm>
            <a:off x="5735520" y="5516640"/>
            <a:ext cx="4498920" cy="9032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confidi, cambiavalute, mediatori creditizi, agenti in attività finanzi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Rectangle 7"/>
          <p:cNvSpPr/>
          <p:nvPr/>
        </p:nvSpPr>
        <p:spPr>
          <a:xfrm>
            <a:off x="6024600" y="4437000"/>
            <a:ext cx="3456000" cy="64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Garamond"/>
                <a:ea typeface="Arial"/>
              </a:rPr>
              <a:t>Intermediari ex 106 TU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Text Box 8"/>
          <p:cNvSpPr/>
          <p:nvPr/>
        </p:nvSpPr>
        <p:spPr>
          <a:xfrm>
            <a:off x="328788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AutoShape 9"/>
          <p:cNvSpPr/>
          <p:nvPr/>
        </p:nvSpPr>
        <p:spPr>
          <a:xfrm>
            <a:off x="4656240" y="465300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Rectangle 10"/>
          <p:cNvSpPr/>
          <p:nvPr/>
        </p:nvSpPr>
        <p:spPr>
          <a:xfrm>
            <a:off x="2639880" y="4437000"/>
            <a:ext cx="1800360" cy="72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Garamond"/>
                <a:ea typeface="Arial"/>
              </a:rPr>
              <a:t>Intese con Gd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AutoShape 11"/>
          <p:cNvSpPr/>
          <p:nvPr/>
        </p:nvSpPr>
        <p:spPr>
          <a:xfrm>
            <a:off x="3287880" y="3789360"/>
            <a:ext cx="358560" cy="576360"/>
          </a:xfrm>
          <a:prstGeom prst="downArrow">
            <a:avLst>
              <a:gd name="adj1" fmla="val 50000"/>
              <a:gd name="adj2" fmla="val 4018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AutoShape 12"/>
          <p:cNvSpPr/>
          <p:nvPr/>
        </p:nvSpPr>
        <p:spPr>
          <a:xfrm rot="18013200">
            <a:off x="4885560" y="3413520"/>
            <a:ext cx="295200" cy="900000"/>
          </a:xfrm>
          <a:prstGeom prst="downArrow">
            <a:avLst>
              <a:gd name="adj1" fmla="val 50000"/>
              <a:gd name="adj2" fmla="val 76220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AutoShape 13"/>
          <p:cNvSpPr/>
          <p:nvPr/>
        </p:nvSpPr>
        <p:spPr>
          <a:xfrm rot="16200000">
            <a:off x="4958640" y="2694960"/>
            <a:ext cx="295200" cy="900000"/>
          </a:xfrm>
          <a:prstGeom prst="downArrow">
            <a:avLst>
              <a:gd name="adj1" fmla="val 50000"/>
              <a:gd name="adj2" fmla="val 76220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AutoShape 14"/>
          <p:cNvSpPr/>
          <p:nvPr/>
        </p:nvSpPr>
        <p:spPr>
          <a:xfrm>
            <a:off x="4727520" y="580536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4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1115" name="PlaceHolder 2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   </a:t>
            </a: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Ruolo della Banca d’Ital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Picture 2" descr=""/>
          <p:cNvPicPr/>
          <p:nvPr/>
        </p:nvPicPr>
        <p:blipFill>
          <a:blip r:embed="rId1"/>
          <a:stretch/>
        </p:blipFill>
        <p:spPr>
          <a:xfrm>
            <a:off x="1523880" y="5950080"/>
            <a:ext cx="7132680" cy="914400"/>
          </a:xfrm>
          <a:prstGeom prst="rect">
            <a:avLst/>
          </a:prstGeom>
          <a:ln w="0">
            <a:noFill/>
          </a:ln>
        </p:spPr>
      </p:pic>
      <p:sp>
        <p:nvSpPr>
          <p:cNvPr id="1117" name="Rectangle 3"/>
          <p:cNvSpPr/>
          <p:nvPr/>
        </p:nvSpPr>
        <p:spPr>
          <a:xfrm>
            <a:off x="2057400" y="98100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CasellaDiTesto 10"/>
          <p:cNvSpPr/>
          <p:nvPr/>
        </p:nvSpPr>
        <p:spPr>
          <a:xfrm>
            <a:off x="1919160" y="1785960"/>
            <a:ext cx="8436240" cy="57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99"/>
                </a:solidFill>
                <a:latin typeface="Garamond"/>
                <a:ea typeface="Arial"/>
              </a:rPr>
              <a:t>Quali sono i nuovi poteri della Vigilanza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6666"/>
                </a:solidFill>
                <a:latin typeface="Garamond"/>
                <a:ea typeface="Arial"/>
              </a:rPr>
              <a:t>Le principali novità del D. Lgs. 231/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 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convocare gli organi di amministrazione, direzione e controllo dei soggetti vigilati, fissando l’ordine del giorno e proponendo l’assunzione di specifiche decision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 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adottare provvedimenti aventi ad oggetto il divieto di nuove operazioni nelle ipotesi di gravi carenze o violazion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 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public statem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 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c.d. «cease and desist order»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 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«temporary ban» → configurata come </a:t>
            </a:r>
            <a:r>
              <a:rPr b="1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sanzione accessoria 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agli esponenti, da </a:t>
            </a:r>
            <a:r>
              <a:rPr b="1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6 mesi a 3 anni 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 </a:t>
            </a:r>
            <a:r>
              <a:rPr b="0" lang="it-IT" sz="2000" spc="-1" strike="noStrike">
                <a:solidFill>
                  <a:srgbClr val="006699"/>
                </a:solidFill>
                <a:latin typeface="Garamond"/>
                <a:ea typeface="Arial"/>
              </a:rPr>
              <a:t>revoca dell’autorizzazi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Rettangolo arrotondato 9"/>
          <p:cNvSpPr/>
          <p:nvPr/>
        </p:nvSpPr>
        <p:spPr>
          <a:xfrm>
            <a:off x="5492880" y="4581360"/>
            <a:ext cx="4897440" cy="719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cap="rnd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Si tratta di nuove misure, applicabili laddove la violazione </a:t>
            </a:r>
            <a:r>
              <a:rPr b="0" lang="it-IT" sz="1600" spc="-1" strike="noStrike" u="sng">
                <a:solidFill>
                  <a:srgbClr val="006699"/>
                </a:solidFill>
                <a:uFillTx/>
                <a:latin typeface="Garamond"/>
                <a:ea typeface="Calibri"/>
              </a:rPr>
              <a:t>non sia</a:t>
            </a:r>
            <a:r>
              <a:rPr b="0" lang="it-IT" sz="1600" spc="-1" strike="noStrike">
                <a:solidFill>
                  <a:srgbClr val="006699"/>
                </a:solidFill>
                <a:latin typeface="Garamond"/>
                <a:ea typeface="Calibri"/>
              </a:rPr>
              <a:t> grave, ripetuta, sistematica o plurim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0" name="Picture 6" descr="logo banca d'Italia"/>
          <p:cNvPicPr/>
          <p:nvPr/>
        </p:nvPicPr>
        <p:blipFill>
          <a:blip r:embed="rId2"/>
          <a:stretch/>
        </p:blipFill>
        <p:spPr>
          <a:xfrm>
            <a:off x="9144000" y="30168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   </a:t>
            </a: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Ruolo della Banca d’Ital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Immagine 4" descr=""/>
          <p:cNvPicPr/>
          <p:nvPr/>
        </p:nvPicPr>
        <p:blipFill>
          <a:blip r:embed="rId1"/>
          <a:stretch/>
        </p:blipFill>
        <p:spPr>
          <a:xfrm>
            <a:off x="3000240" y="1924200"/>
            <a:ext cx="6904080" cy="44002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6" descr="logo banca d'Italia"/>
          <p:cNvPicPr/>
          <p:nvPr/>
        </p:nvPicPr>
        <p:blipFill>
          <a:blip r:embed="rId2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139840" y="159840"/>
            <a:ext cx="7313760" cy="16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Alcuni concetti preliminari:</a:t>
            </a:r>
            <a:br>
              <a:rPr sz="3600"/>
            </a:b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cosa intendiamo per Riciclaggio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Immagine 4" descr=""/>
          <p:cNvPicPr/>
          <p:nvPr/>
        </p:nvPicPr>
        <p:blipFill>
          <a:blip r:embed="rId1"/>
          <a:stretch/>
        </p:blipFill>
        <p:spPr>
          <a:xfrm>
            <a:off x="2495520" y="1827360"/>
            <a:ext cx="8061480" cy="4878360"/>
          </a:xfrm>
          <a:prstGeom prst="rect">
            <a:avLst/>
          </a:prstGeom>
          <a:ln w="0">
            <a:noFill/>
          </a:ln>
        </p:spPr>
      </p:pic>
      <p:sp>
        <p:nvSpPr>
          <p:cNvPr id="941" name="Rettangolo 5"/>
          <p:cNvSpPr/>
          <p:nvPr/>
        </p:nvSpPr>
        <p:spPr>
          <a:xfrm>
            <a:off x="9048600" y="6211800"/>
            <a:ext cx="1440000" cy="52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2" name="Picture 6" descr="logo banca d'Italia"/>
          <p:cNvPicPr/>
          <p:nvPr/>
        </p:nvPicPr>
        <p:blipFill>
          <a:blip r:embed="rId2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139840" y="159840"/>
            <a:ext cx="7313760" cy="16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Alcuni concetti preliminari:</a:t>
            </a:r>
            <a:br>
              <a:rPr sz="3600"/>
            </a:b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cosa intendiamo per Riciclaggio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Immagine 4" descr=""/>
          <p:cNvPicPr/>
          <p:nvPr/>
        </p:nvPicPr>
        <p:blipFill>
          <a:blip r:embed="rId1"/>
          <a:stretch/>
        </p:blipFill>
        <p:spPr>
          <a:xfrm>
            <a:off x="2413080" y="2433600"/>
            <a:ext cx="7823160" cy="40435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139840" y="159840"/>
            <a:ext cx="7313760" cy="165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Alcuni concetti preliminari.</a:t>
            </a:r>
            <a:br>
              <a:rPr sz="3600"/>
            </a:b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Riciclaggio: definizione penale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6" name="Picture 6" descr="logo banca d'Italia"/>
          <p:cNvPicPr/>
          <p:nvPr/>
        </p:nvPicPr>
        <p:blipFill>
          <a:blip r:embed="rId2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947" name="CasellaDiTesto 7"/>
          <p:cNvSpPr/>
          <p:nvPr/>
        </p:nvSpPr>
        <p:spPr>
          <a:xfrm>
            <a:off x="2652120" y="1712880"/>
            <a:ext cx="35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Art. 648 bis C.P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Immagine 4" descr=""/>
          <p:cNvPicPr/>
          <p:nvPr/>
        </p:nvPicPr>
        <p:blipFill>
          <a:blip r:embed="rId1"/>
          <a:stretch/>
        </p:blipFill>
        <p:spPr>
          <a:xfrm>
            <a:off x="1631880" y="1981080"/>
            <a:ext cx="9491760" cy="4481640"/>
          </a:xfrm>
          <a:prstGeom prst="rect">
            <a:avLst/>
          </a:prstGeom>
          <a:ln w="0">
            <a:noFill/>
          </a:ln>
        </p:spPr>
      </p:pic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992240" y="159840"/>
            <a:ext cx="7461360" cy="165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1. Alcuni concetti preliminari.</a:t>
            </a:r>
            <a:br>
              <a:rPr sz="3600"/>
            </a:b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il Riciclaggio: definizione amministrativa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0" name="Picture 6" descr="logo banca d'Italia"/>
          <p:cNvPicPr/>
          <p:nvPr/>
        </p:nvPicPr>
        <p:blipFill>
          <a:blip r:embed="rId2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Immagine 4" descr=""/>
          <p:cNvPicPr/>
          <p:nvPr/>
        </p:nvPicPr>
        <p:blipFill>
          <a:blip r:embed="rId1"/>
          <a:stretch/>
        </p:blipFill>
        <p:spPr>
          <a:xfrm>
            <a:off x="1838160" y="1984320"/>
            <a:ext cx="8595000" cy="426420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992240" y="160200"/>
            <a:ext cx="746136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Alcuni concetti preliminari.</a:t>
            </a:r>
            <a:br>
              <a:rPr sz="3600"/>
            </a:b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La nozione amministrativa è più amp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3" name="Picture 6" descr="logo banca d'Italia"/>
          <p:cNvPicPr/>
          <p:nvPr/>
        </p:nvPicPr>
        <p:blipFill>
          <a:blip r:embed="rId2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954" name="CasellaDiTesto 7"/>
          <p:cNvSpPr/>
          <p:nvPr/>
        </p:nvSpPr>
        <p:spPr>
          <a:xfrm>
            <a:off x="7077960" y="633420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Anche se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2711160" y="1827360"/>
            <a:ext cx="7496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…</a:t>
            </a: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nel dicembre del 2014, la legge n. 186 (art. 3, comma 3) ha finalmente introdotto il reato di autoriciclaggio nell'ordinamento penale italiano (articolo 648 ter.1 del codice penal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Peccato che, in fase di recepimento, il reato è stato subito depotenziato. Infatti in un comma successivo è previsto che </a:t>
            </a:r>
            <a:r>
              <a:rPr b="1" lang="it-IT" sz="2800" spc="-1" strike="noStrike">
                <a:solidFill>
                  <a:srgbClr val="006666"/>
                </a:solidFill>
                <a:latin typeface="Garamond"/>
              </a:rPr>
              <a:t>‘…non sono punibili le condotte per cui il denaro, i beni o le altre utilità vengono destinate alla mera utilizzazione o al godimento personale’</a:t>
            </a: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992240" y="160200"/>
            <a:ext cx="746136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Alcuni concetti preliminari.</a:t>
            </a:r>
            <a:br>
              <a:rPr sz="3600"/>
            </a:br>
            <a:r>
              <a:rPr b="0" lang="it-IT" sz="3600" spc="-1" strike="noStrike">
                <a:solidFill>
                  <a:srgbClr val="006666"/>
                </a:solidFill>
                <a:latin typeface="Garamond"/>
              </a:rPr>
              <a:t>La nozione amministrativa è più amp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7" name="Picture 6" descr="logo banca d'Italia"/>
          <p:cNvPicPr/>
          <p:nvPr/>
        </p:nvPicPr>
        <p:blipFill>
          <a:blip r:embed="rId1"/>
          <a:stretch/>
        </p:blipFill>
        <p:spPr>
          <a:xfrm>
            <a:off x="9353520" y="3128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2T03:49:41Z</dcterms:created>
  <dc:creator>ARDITI GIOVANNI</dc:creator>
  <dc:description/>
  <dc:language>en-US</dc:language>
  <cp:lastModifiedBy>Giuspy 72</cp:lastModifiedBy>
  <cp:lastPrinted>2017-11-29T08:01:02Z</cp:lastPrinted>
  <dcterms:modified xsi:type="dcterms:W3CDTF">2019-09-30T17:35:56Z</dcterms:modified>
  <cp:revision>1233</cp:revision>
  <dc:subject/>
  <dc:title>ORDINE DEI DOTTORI COMMERCIALISTI DI NAPOLI La normativa antiriciclaggio: gli obblighi di identificazione, di registrazione delle informazioni e di segnalazione delle "operazioni sospette"  Napoli, 11 giugno 2004  a cura di Raffaele Jandoli BANCA D'I</dc:title>
</cp:coreProperties>
</file>